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89be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4e89b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5946-6D51-428B-B414-DB1152072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7BE3-81C8-489D-8C8B-90FD3C673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5D7E-6CFB-4BD9-B473-9561EEBBC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48D0-56B0-4EC6-B209-8387D0368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0935-36DE-4127-90A5-EB29FBC3B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1C29-5678-4DA1-A8F4-5D341B17C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9C50-F036-422D-B702-F70870587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774C-29BB-4787-A23C-28FF9DB64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86D52-165C-45AC-85A8-002F08628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798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89b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2144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11280" y="3590280"/>
            <a:ext cx="792144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D6BB3-3C25-4C27-9706-7E4852175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798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89b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3865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483920"/>
            <a:ext cx="3865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1280" y="3590280"/>
            <a:ext cx="3865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590280"/>
            <a:ext cx="3865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96211-4A93-4CCD-9233-E7925AD50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798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89b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255060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9680" y="1483920"/>
            <a:ext cx="255060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440" y="1483920"/>
            <a:ext cx="255060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11280" y="3590280"/>
            <a:ext cx="255060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9680" y="3590280"/>
            <a:ext cx="255060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440" y="3590280"/>
            <a:ext cx="255060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E47C-74D6-483B-8148-6BD68A2928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798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89b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483920"/>
            <a:ext cx="7921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798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89b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21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798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89b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38653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483920"/>
            <a:ext cx="38653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798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89b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1280" y="259920"/>
            <a:ext cx="57988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798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89b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3865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483920"/>
            <a:ext cx="38653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3590280"/>
            <a:ext cx="3865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798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89b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11280" y="1483920"/>
            <a:ext cx="7921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323E7-EF02-4839-9164-A01E19A0D6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798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89b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38653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483920"/>
            <a:ext cx="3865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590280"/>
            <a:ext cx="3865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798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89b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3865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483920"/>
            <a:ext cx="3865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3590280"/>
            <a:ext cx="792144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798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89b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2144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3590280"/>
            <a:ext cx="792144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798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89b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3865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483920"/>
            <a:ext cx="3865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3590280"/>
            <a:ext cx="3865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590280"/>
            <a:ext cx="3865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798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89b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255060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9680" y="1483920"/>
            <a:ext cx="255060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8440" y="1483920"/>
            <a:ext cx="255060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3590280"/>
            <a:ext cx="255060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9680" y="3590280"/>
            <a:ext cx="255060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8440" y="3590280"/>
            <a:ext cx="255060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798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89b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21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60DD-9BA8-4B42-9A63-F0343EE90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798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89b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38653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483920"/>
            <a:ext cx="38653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4A990-A8FA-4722-9A79-42062ADF5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798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89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41873-C9B6-4947-B342-89D46EEDFB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1280" y="259920"/>
            <a:ext cx="57988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64937-F02A-4FC2-B380-6E370683B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798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89b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3865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483920"/>
            <a:ext cx="38653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11280" y="3590280"/>
            <a:ext cx="3865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20608-FAF2-4C9E-9BCC-866969018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798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89b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38653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483920"/>
            <a:ext cx="3865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590280"/>
            <a:ext cx="3865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06EA2-11E3-473F-86D5-93FC4A5C7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798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89b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3865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483920"/>
            <a:ext cx="3865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11280" y="3590280"/>
            <a:ext cx="792144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C2FB8-1DE3-4BAB-B1BF-75D37E423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798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89be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89b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483920"/>
            <a:ext cx="7921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75"/>
              </a:spcBef>
              <a:spcAft>
                <a:spcPts val="825"/>
              </a:spcAft>
              <a:buClr>
                <a:srgbClr val="4e89be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spcBef>
                <a:spcPts val="1375"/>
              </a:spcBef>
              <a:spcAft>
                <a:spcPts val="825"/>
              </a:spcAft>
              <a:buClr>
                <a:srgbClr val="4e89b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82600">
              <a:spcBef>
                <a:spcPts val="1375"/>
              </a:spcBef>
              <a:spcAft>
                <a:spcPts val="825"/>
              </a:spcAft>
              <a:buClr>
                <a:srgbClr val="4e89b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1440" indent="-265320">
              <a:spcBef>
                <a:spcPts val="1375"/>
              </a:spcBef>
              <a:spcAft>
                <a:spcPts val="825"/>
              </a:spcAft>
              <a:buClr>
                <a:srgbClr val="4e89b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66760">
              <a:spcBef>
                <a:spcPts val="1375"/>
              </a:spcBef>
              <a:spcAft>
                <a:spcPts val="825"/>
              </a:spcAft>
              <a:buClr>
                <a:srgbClr val="4e89b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66760">
              <a:spcBef>
                <a:spcPts val="1375"/>
              </a:spcBef>
              <a:spcAft>
                <a:spcPts val="825"/>
              </a:spcAft>
              <a:buClr>
                <a:srgbClr val="00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66760">
              <a:spcBef>
                <a:spcPts val="1375"/>
              </a:spcBef>
              <a:spcAft>
                <a:spcPts val="825"/>
              </a:spcAft>
              <a:buClr>
                <a:srgbClr val="00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51640" y="6308280"/>
            <a:ext cx="116208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FD6D-5D2B-4AC6-8D95-891B2D95C0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igp&amp;i_logo"/>
          <p:cNvPicPr/>
          <p:nvPr/>
        </p:nvPicPr>
        <p:blipFill>
          <a:blip r:embed="rId2"/>
          <a:stretch/>
        </p:blipFill>
        <p:spPr>
          <a:xfrm>
            <a:off x="6905520" y="404640"/>
            <a:ext cx="1656000" cy="6210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611280" y="6021360"/>
            <a:ext cx="7921440" cy="142920"/>
          </a:xfrm>
          <a:prstGeom prst="rect">
            <a:avLst/>
          </a:prstGeom>
          <a:solidFill>
            <a:srgbClr val="bad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39640" y="6308280"/>
            <a:ext cx="3384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SC Napoli - Presentation to European Parliament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igp&amp;i_logo"/>
          <p:cNvPicPr/>
          <p:nvPr/>
        </p:nvPicPr>
        <p:blipFill>
          <a:blip r:embed="rId2"/>
          <a:stretch/>
        </p:blipFill>
        <p:spPr>
          <a:xfrm>
            <a:off x="2798640" y="2171880"/>
            <a:ext cx="3544920" cy="13284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771640" y="3645000"/>
            <a:ext cx="360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498b9f"/>
                </a:solidFill>
                <a:latin typeface="Arial"/>
              </a:rPr>
              <a:t>International Group of P&amp;I Club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798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89be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89b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11280" y="1483920"/>
            <a:ext cx="7921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75"/>
              </a:spcBef>
              <a:spcAft>
                <a:spcPts val="825"/>
              </a:spcAft>
              <a:buClr>
                <a:srgbClr val="4e89be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spcBef>
                <a:spcPts val="1375"/>
              </a:spcBef>
              <a:spcAft>
                <a:spcPts val="825"/>
              </a:spcAft>
              <a:buClr>
                <a:srgbClr val="4e89b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82600">
              <a:spcBef>
                <a:spcPts val="1375"/>
              </a:spcBef>
              <a:spcAft>
                <a:spcPts val="825"/>
              </a:spcAft>
              <a:buClr>
                <a:srgbClr val="4e89b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1440" indent="-265320">
              <a:spcBef>
                <a:spcPts val="1375"/>
              </a:spcBef>
              <a:spcAft>
                <a:spcPts val="825"/>
              </a:spcAft>
              <a:buClr>
                <a:srgbClr val="4e89b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66760">
              <a:spcBef>
                <a:spcPts val="1375"/>
              </a:spcBef>
              <a:spcAft>
                <a:spcPts val="825"/>
              </a:spcAft>
              <a:buClr>
                <a:srgbClr val="4e89b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66760">
              <a:spcBef>
                <a:spcPts val="1375"/>
              </a:spcBef>
              <a:spcAft>
                <a:spcPts val="825"/>
              </a:spcAft>
              <a:buClr>
                <a:srgbClr val="00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66760">
              <a:spcBef>
                <a:spcPts val="1375"/>
              </a:spcBef>
              <a:spcAft>
                <a:spcPts val="825"/>
              </a:spcAft>
              <a:buClr>
                <a:srgbClr val="00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4292640"/>
            <a:ext cx="79214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SA Places of Refug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 Top Exerci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tterdam</a:t>
            </a:r>
            <a:endParaRPr b="0" lang="en-US" sz="1800" spc="-1" strike="noStrike">
              <a:solidFill>
                <a:srgbClr val="4e89b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4360" y="5300280"/>
            <a:ext cx="7921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vember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451640" y="6308640"/>
            <a:ext cx="11620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9728-33B9-4AF9-ABC5-1875E4409C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539640" y="6308640"/>
            <a:ext cx="338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SA - Rotterd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84200" y="1089000"/>
            <a:ext cx="8175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&amp;I Cover for Actual and Potential Liab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/>
          <p:cNvSpPr/>
          <p:nvPr/>
        </p:nvSpPr>
        <p:spPr>
          <a:xfrm>
            <a:off x="3708360" y="2744640"/>
            <a:ext cx="2232000" cy="154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3419640" y="2781360"/>
            <a:ext cx="2303280" cy="165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>
            <a:off x="2735280" y="2673360"/>
            <a:ext cx="2844720" cy="15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>
            <a:off x="3276720" y="2673360"/>
            <a:ext cx="2590560" cy="197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20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&amp;I Ins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30280" y="1844640"/>
            <a:ext cx="3681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il Pol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5050"/>
                </a:solidFill>
                <a:latin typeface="Arial"/>
              </a:rPr>
              <a:t>Prevention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5050"/>
                </a:solidFill>
                <a:latin typeface="Arial"/>
              </a:rPr>
              <a:t>Respons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5050"/>
                </a:solidFill>
                <a:latin typeface="Arial"/>
              </a:rPr>
              <a:t>Clean Up/Fishing clai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5050"/>
                </a:solidFill>
                <a:latin typeface="Arial"/>
              </a:rPr>
              <a:t>Wildlife/Physical da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5050"/>
                </a:solidFill>
                <a:latin typeface="Arial"/>
              </a:rPr>
              <a:t>Economic Loss/rein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372360" y="1844640"/>
            <a:ext cx="29034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8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reck Li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505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ff5050"/>
                </a:solidFill>
                <a:latin typeface="Arial"/>
              </a:rPr>
              <a:t>Removal ship/fuel/car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1116000" y="5084640"/>
            <a:ext cx="6912000" cy="8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alv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5050"/>
                </a:solidFill>
                <a:latin typeface="Arial"/>
              </a:rPr>
              <a:t>Salvage Convention 19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5050"/>
                </a:solidFill>
                <a:latin typeface="Arial"/>
              </a:rPr>
              <a:t>Special Compensation P&amp;I Clause (SCOPI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231840" y="4778280"/>
            <a:ext cx="266508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8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go Li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5050"/>
                </a:solidFill>
                <a:latin typeface="Arial"/>
              </a:rPr>
              <a:t>Loss/Da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5050"/>
                </a:solidFill>
                <a:latin typeface="Arial"/>
              </a:rPr>
              <a:t>Cargo re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 flipV="1">
            <a:off x="4572000" y="4436640"/>
            <a:ext cx="0" cy="6476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 flipH="1">
            <a:off x="5435280" y="2206800"/>
            <a:ext cx="863640" cy="8618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2550960" y="2276640"/>
            <a:ext cx="1157400" cy="792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9"/>
          <p:cNvSpPr/>
          <p:nvPr/>
        </p:nvSpPr>
        <p:spPr>
          <a:xfrm flipV="1">
            <a:off x="2771640" y="4076280"/>
            <a:ext cx="863640" cy="6476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4"/>
          <p:cNvSpPr/>
          <p:nvPr/>
        </p:nvSpPr>
        <p:spPr>
          <a:xfrm flipH="1">
            <a:off x="6371640" y="4508640"/>
            <a:ext cx="24476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idental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5050"/>
                </a:solidFill>
                <a:latin typeface="Arial"/>
              </a:rPr>
              <a:t>e.g. Non-oil clean up and disposal of waste e.g. waste on be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6"/>
          <p:cNvSpPr/>
          <p:nvPr/>
        </p:nvSpPr>
        <p:spPr>
          <a:xfrm flipH="1" flipV="1">
            <a:off x="5435640" y="4149720"/>
            <a:ext cx="792000" cy="50328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7451640" y="6308640"/>
            <a:ext cx="11620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19D4-DEB3-411D-A24C-5E0A0490A7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539640" y="6308640"/>
            <a:ext cx="338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SA - Rotterd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79218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tatutory Liabilities CLC &amp; Bunker oil conven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751"/>
              </a:spcAft>
              <a:buClr>
                <a:srgbClr val="4e89be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nker and cargo oil prevention &amp; clean up – Strict li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751"/>
              </a:spcAft>
              <a:buClr>
                <a:srgbClr val="4e89be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lvage – Salvage Convention 1989. Obligation to reward salvor for “useful resul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751"/>
              </a:spcAft>
              <a:buClr>
                <a:srgbClr val="4e89be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eck removal including loss of cargo/containers may be subject to law in force in juris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ontractual Liab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751"/>
              </a:spcAft>
              <a:buClr>
                <a:srgbClr val="4e89be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lvage – LOF/SCOP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751"/>
              </a:spcAft>
              <a:buClr>
                <a:srgbClr val="4e89be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go claims – Subject to terms of carriage contracts e.g. Hague-Visby, Hamburg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7451640" y="6308640"/>
            <a:ext cx="11620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F117-8BB7-4AF5-AC20-6B8761CE6A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5"/>
          <p:cNvSpPr/>
          <p:nvPr/>
        </p:nvSpPr>
        <p:spPr>
          <a:xfrm>
            <a:off x="539640" y="6524640"/>
            <a:ext cx="33847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SA - Rotterd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849600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1992 Civil Liability 2001 Bunkers Convention Liability &amp; Financial Security </a:t>
            </a:r>
            <a:r>
              <a:rPr b="1" i="1" lang="en-GB" sz="2000" spc="-1" strike="noStrike">
                <a:solidFill>
                  <a:srgbClr val="ff5050"/>
                </a:solidFill>
                <a:latin typeface="Arial"/>
              </a:rPr>
              <a:t>Comparison of IMO regimes under current legi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GB" sz="9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4000" y="2060640"/>
          <a:ext cx="8496000" cy="3679920"/>
        </p:xfrm>
        <a:graphic>
          <a:graphicData uri="http://schemas.openxmlformats.org/drawingml/2006/table">
            <a:tbl>
              <a:tblPr/>
              <a:tblGrid>
                <a:gridCol w="2832120"/>
                <a:gridCol w="2831760"/>
                <a:gridCol w="2832120"/>
              </a:tblGrid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 C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kers conven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y on ow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ct – limited def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ct – limited def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ation permit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 CLC Lim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MC ‘96 - 51% increase from April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datory financial security (Blue card guarantees) &amp; State Party verification certific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le parties, as defined in the Con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s / right of direct action against insur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s / r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ht of direct action against insur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7451640" y="6308640"/>
            <a:ext cx="11620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F3FB-0047-4EE8-91EC-2D841D0275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539640" y="6308640"/>
            <a:ext cx="338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SA - Rotterd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792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irective 2009/20 – Insurance for claims subject to LLMC 1996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9640" y="1989000"/>
          <a:ext cx="8136000" cy="3961080"/>
        </p:xfrm>
        <a:graphic>
          <a:graphicData uri="http://schemas.openxmlformats.org/drawingml/2006/table">
            <a:tbl>
              <a:tblPr/>
              <a:tblGrid>
                <a:gridCol w="4103640"/>
                <a:gridCol w="4032360"/>
              </a:tblGrid>
              <a:tr h="658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ims subject to limi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ims not subject to limi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2280"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spcBef>
                          <a:spcPts val="1125"/>
                        </a:spcBef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rty claims arising from loss of or damage by or to car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spcBef>
                          <a:spcPts val="1125"/>
                        </a:spcBef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da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spcBef>
                          <a:spcPts val="1125"/>
                        </a:spcBef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 in respect of pol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spcBef>
                          <a:spcPts val="1125"/>
                        </a:spcBef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jury and death to crew/passeng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spcBef>
                          <a:spcPts val="1125"/>
                        </a:spcBef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eck removal?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spcBef>
                          <a:spcPts val="1125"/>
                        </a:spcBef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spcBef>
                          <a:spcPts val="1125"/>
                        </a:spcBef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eck Removal and costs in relation to the removal, destruction or rendering harmless of hull and cargo, subject to conditions made by State at ratification/acc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spcBef>
                          <a:spcPts val="1125"/>
                        </a:spcBef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vage Award – normally limited by agreement to the salved value of ship and cargo or special compensation for protection of the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451640" y="6308640"/>
            <a:ext cx="11620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705B-65E6-44C9-B5E9-D5472814ED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539640" y="6308640"/>
            <a:ext cx="338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SA - Rotterd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89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ill the entry into force of the 2007 Wreck Removal Convention make a difference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e89be"/>
              </a:buClr>
              <a:buSzPct val="125000"/>
              <a:buFont typeface="Arial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WRC help States grant ships a POR e.g. in the incident described in this workshop?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e89be"/>
              </a:buClr>
              <a:buSzPct val="125000"/>
              <a:buFont typeface="Arial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wners strict liability to locate, mark, remove hazard/wreck in the EEZ of a State Party  and territory, territorial sea, subject to conditions established in ratification/accession instru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e89be"/>
              </a:buClr>
              <a:buSzPct val="125000"/>
              <a:buFont typeface="Arial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datory insurance requirement / duty on State to certify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e89be"/>
              </a:buClr>
              <a:buSzPct val="125000"/>
              <a:buFont typeface="Arial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ghts of direction action against Owner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&amp;I ins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e89be"/>
              </a:buClr>
              <a:buSzPct val="125000"/>
              <a:buFont typeface="Arial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s for purpose of compulsory insurance requirement consistent with LLMC 96 – new limits 51% increase from April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2760" indent="0">
              <a:buNone/>
              <a:tabLst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13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i="1" lang="en-GB" sz="7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i="1" lang="en-GB" sz="700" spc="-1" strike="noStrike">
                <a:solidFill>
                  <a:srgbClr val="ff505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68360" y="1125360"/>
            <a:ext cx="82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7451640" y="6308640"/>
            <a:ext cx="11620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B87B-2B3D-45C3-9EC1-B02B43D995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539640" y="6308640"/>
            <a:ext cx="338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SA - Rotterd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280" y="981000"/>
            <a:ext cx="79218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375"/>
              </a:spcBef>
              <a:spcAft>
                <a:spcPts val="825"/>
              </a:spcAft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e89be"/>
              </a:buClr>
              <a:buSzPct val="125000"/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sualty could occur in extreme weather - unavoidable maritime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e89be"/>
              </a:buClr>
              <a:buSzPct val="125000"/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ll coordinated, immediate State response and effective continuous liaison with shipowners/insurers may preserve vessel/cargo and minimise consequential health &amp; navigation risks &amp; environmental impact/da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e89be"/>
              </a:buClr>
              <a:buSzPct val="125000"/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ability insurance to cover actual/anticipated direct and third-party claims ari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e89be"/>
              </a:buClr>
              <a:buSzPct val="125000"/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umbent on States to ratify/accede to liability Conventions as soon as possible implementing liability provisions in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e89be"/>
              </a:buClr>
              <a:buSzPct val="125000"/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ffective implementation in domestic law minimises risk of legal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e89be"/>
              </a:buClr>
              <a:buSzPct val="125000"/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gal certainty reduces risk of protracted legal actions and delay in payment of compensation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3T10:44:45Z</dcterms:created>
  <dc:creator>David Bolomini</dc:creator>
  <dc:description/>
  <dc:language>en-US</dc:language>
  <cp:lastModifiedBy>David Bolomini</cp:lastModifiedBy>
  <cp:lastPrinted>2013-11-21T14:45:24Z</cp:lastPrinted>
  <dcterms:modified xsi:type="dcterms:W3CDTF">2013-11-28T11:33:11Z</dcterms:modified>
  <cp:revision>94</cp:revision>
  <dc:subject/>
  <dc:title>Presentation Title</dc:title>
</cp:coreProperties>
</file>